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028113"/>
  <p:custShowLst>
    <p:custShow name="Apresentação personalizada 1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B7E-84F8-4185-AFE7-7F350D60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72A6-51F8-47DA-A0E8-4F5839E6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774A-09A4-40F8-B8CA-64F6EF1B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E75-516C-4A98-867E-10964535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9071-E024-4E0B-9DB0-5AA4572C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D499-51B2-4A4D-8151-DCA2A007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A3BF-F5B7-4309-B128-D932C7F5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A3D6-FBB3-4E61-9A10-483CBB6D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5635-E733-4CA7-BE35-4E6C519C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5EDE-E531-4506-89B6-6C212AF4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D652-DD6A-45E5-AFB8-23B8379B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1F51-1919-4D02-ACB4-FAF821A3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D293-8A8F-4DC8-843D-B66EC93E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CE33-15CA-4832-B7FE-D9403A77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4AF8-96F0-45D0-9F9D-30758551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D731-1EBE-4D9B-871D-D805D85C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82A7-1F59-4F60-87D1-2BE180EA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7E99-2EC2-457C-AD06-2ED739AA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0787-2D26-44CA-B9A3-69E7A3EE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486A-441C-4F12-92FE-8F0326FC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B8F-E929-4344-9D49-538DD1DC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7EB2-8A37-47E2-9AED-E4B678F7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46C7-6A38-451F-99C5-10BE3AC5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29F1-E6A1-467C-8B9B-A6D90322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5ECE-FCE0-4F3A-B8D3-5629D7ECC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B481-3A2A-4AA0-BB13-D4B030A0A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de Canais para Comunicação de Dispositivos Móve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95280" y="56386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o de Matemática e Estat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dade de São Pa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34290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lessandro Santiago {santiago@ime.usp.b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Dinâm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1752480"/>
            <a:ext cx="3048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QUEMA (sub-grup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ell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ignal strength measurements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295280" y="1676520"/>
            <a:ext cx="3276720" cy="5223960"/>
            <a:chOff x="1295280" y="1676520"/>
            <a:chExt cx="3276720" cy="5223960"/>
          </a:xfrm>
        </p:grpSpPr>
        <p:sp>
          <p:nvSpPr>
            <p:cNvPr id="186" name=""/>
            <p:cNvSpPr/>
            <p:nvPr/>
          </p:nvSpPr>
          <p:spPr>
            <a:xfrm>
              <a:off x="1295280" y="1676520"/>
              <a:ext cx="3276720" cy="25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First Available (F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Locally Optimized Dynamic Assignment(LOD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Selection with maximum usage on the ring(RING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Nearest Neighbor(N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Nearest Neighbor plus one(NN+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1447200" y="4327560"/>
              <a:ext cx="2265840" cy="2572920"/>
              <a:chOff x="1447200" y="4327560"/>
              <a:chExt cx="2265840" cy="2572920"/>
            </a:xfrm>
          </p:grpSpPr>
          <p:sp>
            <p:nvSpPr>
              <p:cNvPr id="188" name=""/>
              <p:cNvSpPr/>
              <p:nvPr/>
            </p:nvSpPr>
            <p:spPr>
              <a:xfrm>
                <a:off x="1555920" y="4701960"/>
                <a:ext cx="2157120" cy="673920"/>
              </a:xfrm>
              <a:prstGeom prst="rightArrow">
                <a:avLst>
                  <a:gd name="adj1" fmla="val 50000"/>
                  <a:gd name="adj2" fmla="val 80021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N,NN+1,RING,F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47200" y="4327560"/>
                <a:ext cx="226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arga do Tráfi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828440" y="6226200"/>
                <a:ext cx="1533600" cy="674280"/>
              </a:xfrm>
              <a:prstGeom prst="rightArrow">
                <a:avLst>
                  <a:gd name="adj1" fmla="val 50000"/>
                  <a:gd name="adj2" fmla="val 56861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N,FA,NN+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20960" y="5657760"/>
                <a:ext cx="1299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loque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1903680" y="1066680"/>
            <a:ext cx="5349960" cy="536040"/>
            <a:chOff x="1903680" y="1066680"/>
            <a:chExt cx="5349960" cy="536040"/>
          </a:xfrm>
        </p:grpSpPr>
        <p:sp>
          <p:nvSpPr>
            <p:cNvPr id="193" name=""/>
            <p:cNvSpPr/>
            <p:nvPr/>
          </p:nvSpPr>
          <p:spPr>
            <a:xfrm>
              <a:off x="1903680" y="1066680"/>
              <a:ext cx="174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entraliz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62720" y="1143000"/>
              <a:ext cx="16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í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Dinâm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987480" y="1058760"/>
          <a:ext cx="8485200" cy="1707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1058760"/>
                    <a:ext cx="8485200" cy="170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Fixa X Dinâm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1676520"/>
            <a:ext cx="35816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lhor em alto tráfic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ixa flexibi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opriado para Macro-cél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a Probabilidade de terminação forçada de cham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ixo Esforço Comput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ixa Complexidade na implemen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ixa carga de sinal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o/Intenso planejamento de freqü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1600200"/>
            <a:ext cx="3886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lhor em moderado ou leve t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í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opriado para Micro-Célul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ixa/Moderada Probabilidade de terminação forçada de cham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o Esforço Comput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a Complexidade na implemen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a carga de sinal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 planejamento de freqüênc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9040" y="10666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4040" y="10666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utras Esque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1523880"/>
            <a:ext cx="3048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verlapping Ce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delo Sugeri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6" name="areanovo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14680" cy="464688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3048120" y="2819520"/>
            <a:ext cx="2209680" cy="304560"/>
            <a:chOff x="3048120" y="2819520"/>
            <a:chExt cx="2209680" cy="304560"/>
          </a:xfrm>
        </p:grpSpPr>
        <p:sp>
          <p:nvSpPr>
            <p:cNvPr id="208" name=""/>
            <p:cNvSpPr/>
            <p:nvPr/>
          </p:nvSpPr>
          <p:spPr>
            <a:xfrm>
              <a:off x="3048120" y="2819520"/>
              <a:ext cx="304560" cy="22860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24280" y="2971800"/>
              <a:ext cx="533520" cy="15228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114800" y="2438280"/>
            <a:ext cx="2438280" cy="2057400"/>
            <a:chOff x="4114800" y="2438280"/>
            <a:chExt cx="2438280" cy="2057400"/>
          </a:xfrm>
        </p:grpSpPr>
        <p:sp>
          <p:nvSpPr>
            <p:cNvPr id="211" name=""/>
            <p:cNvSpPr/>
            <p:nvPr/>
          </p:nvSpPr>
          <p:spPr>
            <a:xfrm>
              <a:off x="4114800" y="2438280"/>
              <a:ext cx="228600" cy="22860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91120" y="3124080"/>
              <a:ext cx="152280" cy="45720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95680" y="3124080"/>
              <a:ext cx="228600" cy="22860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43600" y="4114800"/>
              <a:ext cx="152280" cy="38088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72200" y="3809880"/>
              <a:ext cx="380880" cy="15264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657600" y="297180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57600" y="297180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48120" y="2819520"/>
            <a:ext cx="2209680" cy="304560"/>
            <a:chOff x="3048120" y="2819520"/>
            <a:chExt cx="2209680" cy="304560"/>
          </a:xfrm>
        </p:grpSpPr>
        <p:sp>
          <p:nvSpPr>
            <p:cNvPr id="219" name=""/>
            <p:cNvSpPr/>
            <p:nvPr/>
          </p:nvSpPr>
          <p:spPr>
            <a:xfrm>
              <a:off x="3048120" y="2819520"/>
              <a:ext cx="304560" cy="22860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24280" y="2971800"/>
              <a:ext cx="533520" cy="15228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581280" y="2895480"/>
            <a:ext cx="533520" cy="152640"/>
          </a:xfrm>
          <a:prstGeom prst="lightningBol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486400" y="2514600"/>
            <a:ext cx="457200" cy="609480"/>
          </a:xfrm>
          <a:prstGeom prst="lightningBol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nda não se chegou num modelo defin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modelo é mais adequado a um tipo ambiente, e não ao 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a tendência da infra-estrutura de micro ou pico célu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 tendência a alocação dinâ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ferênc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.Katezela, M. Naghsshineh. Channel assigment schemes for cellular mobile telecomunications systems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inicurso: Infra-estrutura de redes celulares e serviços, em III workshop de comunicação sem fio e computação mó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que é Alocação de Cana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ocação de Canais Fixa, Dinâmica, Híbr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ocação Fix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ocação Dinâm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ocação Híbr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ros esqu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diagrama" descr=""/>
          <p:cNvPicPr/>
          <p:nvPr/>
        </p:nvPicPr>
        <p:blipFill>
          <a:blip r:embed="rId1"/>
          <a:stretch/>
        </p:blipFill>
        <p:spPr>
          <a:xfrm>
            <a:off x="2514600" y="2666880"/>
            <a:ext cx="5029200" cy="3848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38080" y="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cupação em se manter a conex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762120"/>
            <a:ext cx="822960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PC - Tempo Requerido de Permanência da Cham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mpo que o usuário deseja permanecer na chamada, isto é, tempo total da chamada sem interrup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PC - Tempo Atual de Permanência da Cham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ação final da chamada com ou sem interrupçõ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 que é Alocação de Cana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visão do spectrum de freqüência para formar os ca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5562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600200" y="37335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3581280"/>
            <a:ext cx="1616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al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4114800"/>
            <a:ext cx="1616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al 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4648320"/>
            <a:ext cx="1616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al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5105520"/>
            <a:ext cx="1616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al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733920" y="38098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3809880"/>
            <a:ext cx="30492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anaL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5638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3809880"/>
            <a:ext cx="3045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aL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3809880"/>
            <a:ext cx="3045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a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3809880"/>
            <a:ext cx="3045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aL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095880" y="38098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5638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3962520"/>
            <a:ext cx="18288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dos os canais compartilham a largura de banda, identificação por cód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9520" y="567684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vis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ü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94720" y="5715000"/>
            <a:ext cx="119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vis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65240" y="5715000"/>
            <a:ext cx="121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vis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Cód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de Cana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cação Fix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cação Dinâ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cação Híbr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Fix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ição Uni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ição não Uni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590920"/>
            <a:ext cx="6629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ratégias de Empréstimo de Ca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íbrid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Fixa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Empréstimo canai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219320"/>
            <a:ext cx="3276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QU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orrow from Richest (SB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asic Algorithm(B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.Algorithm with Reassi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orrow First Available(BF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419720" y="1219320"/>
            <a:ext cx="4724280" cy="1676160"/>
            <a:chOff x="4419720" y="1219320"/>
            <a:chExt cx="4724280" cy="1676160"/>
          </a:xfrm>
        </p:grpSpPr>
        <p:sp>
          <p:nvSpPr>
            <p:cNvPr id="164" name=""/>
            <p:cNvSpPr/>
            <p:nvPr/>
          </p:nvSpPr>
          <p:spPr>
            <a:xfrm>
              <a:off x="4419720" y="1219320"/>
              <a:ext cx="160020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lexi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er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ix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67280" y="1219320"/>
              <a:ext cx="160020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lexibili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er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er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er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ix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15200" y="1219320"/>
              <a:ext cx="182880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u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i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i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ito pou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752480" y="3581280"/>
            <a:ext cx="3048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QU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orrow with channel ordering (BC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orrow with directional channel locking(BDC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66680" y="1143000"/>
            <a:ext cx="257400" cy="4251600"/>
            <a:chOff x="1066680" y="1143000"/>
            <a:chExt cx="257400" cy="4251600"/>
          </a:xfrm>
        </p:grpSpPr>
        <p:sp>
          <p:nvSpPr>
            <p:cNvPr id="169" name=""/>
            <p:cNvSpPr/>
            <p:nvPr/>
          </p:nvSpPr>
          <p:spPr>
            <a:xfrm>
              <a:off x="1066680" y="1143000"/>
              <a:ext cx="257400" cy="179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I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3597120"/>
              <a:ext cx="257400" cy="179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IBRI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866560" y="3733920"/>
            <a:ext cx="2265480" cy="2572920"/>
            <a:chOff x="5866560" y="3733920"/>
            <a:chExt cx="2265480" cy="2572920"/>
          </a:xfrm>
        </p:grpSpPr>
        <p:sp>
          <p:nvSpPr>
            <p:cNvPr id="172" name=""/>
            <p:cNvSpPr/>
            <p:nvPr/>
          </p:nvSpPr>
          <p:spPr>
            <a:xfrm>
              <a:off x="6104160" y="4108320"/>
              <a:ext cx="1868040" cy="673920"/>
            </a:xfrm>
            <a:prstGeom prst="rightArrow">
              <a:avLst>
                <a:gd name="adj1" fmla="val 50000"/>
                <a:gd name="adj2" fmla="val 69298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CA,BCO,BD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66560" y="3733920"/>
              <a:ext cx="22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rga do Tráf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05960" y="5632560"/>
              <a:ext cx="1868040" cy="674280"/>
            </a:xfrm>
            <a:prstGeom prst="rightArrow">
              <a:avLst>
                <a:gd name="adj1" fmla="val 50000"/>
                <a:gd name="adj2" fmla="val 69261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DCL,BCO,F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40680" y="506412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oque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Fixa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Empréstimo canai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1219320"/>
            <a:ext cx="3276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QU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imple F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tatic Borrow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imple channel borrow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ibryd channel borrow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3920" y="1219320"/>
            <a:ext cx="1600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x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ix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rado-Baix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rado-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1219320"/>
            <a:ext cx="1600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ibil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ix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9400" y="1219320"/>
            <a:ext cx="2514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lhor que hibrido em alto trá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lhor que F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lhor que FCA e Static Borrowing em tráfico moderado e le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lhor que FCA em tráfico moderado e leve. Melhor que simple borrowing em alto trá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Dinâm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iz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í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5T15:46:24Z</dcterms:created>
  <dc:creator>alessandro</dc:creator>
  <dc:description/>
  <dc:language>en-US</dc:language>
  <cp:lastModifiedBy>alessandro</cp:lastModifiedBy>
  <cp:lastPrinted>2001-10-11T17:17:57Z</cp:lastPrinted>
  <dcterms:modified xsi:type="dcterms:W3CDTF">2001-10-11T17:23:40Z</dcterms:modified>
  <cp:revision>25</cp:revision>
  <dc:subject/>
  <dc:title>Políticas de Hand-off com Balanceamento de Carga para Computação Móvel</dc:title>
</cp:coreProperties>
</file>