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7B8-E4C7-42AF-B9EE-8A18C37F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5A1-3528-4A40-9E99-80529C2A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78C3-1239-471B-B56C-6F094985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608-D20A-4BA2-92D5-D93F700A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C8B8-4FF6-4783-9A8F-99BA0390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C2DD-5863-4C3B-B810-95D83537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EA37-C730-4D41-B29E-A2058559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0E8F-EF97-4770-AD04-F6A0A4A6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9D50-F97D-4AA8-8BE1-01F97878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BF37-8521-45D2-898D-F915E798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6A37-5F98-4413-9263-81EBD085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B329-9D2B-4362-B835-4D71E5A7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63DE-E63F-422F-ACCF-5BE84F09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82D9-5B5D-4F3A-987D-E54EFF47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E4A2-7ACF-4067-B714-CA5FB57B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4B17-3AA7-4D86-B048-831946FE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2A0A-08E4-4F88-82B7-6E7E84CA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A139-6BA6-41DB-AE7C-507E20FF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30F-683C-4301-B1F0-7DA0467A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A1C7-12A4-4A48-8D81-A01AFBAB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E4A-DF38-4DB2-B633-17AE9453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6E6B-10AA-425A-8127-F4443ABE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AEBD-1B98-4CB0-A7D9-E076E998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AAE4-EE8E-4C16-B543-8E34C6D0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DC69-C7F8-4A39-A872-152B414555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C761-4228-4F21-81D8-E35F758503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Computação Ubíqua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5483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lindo Flávio da Conce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lindo@ime.usp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336480"/>
            <a:ext cx="7775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Arial"/>
              </a:rPr>
              <a:t>Passado, presente e futuro..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jitsu TeamPad 760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876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tium 166 MM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 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0 X 600 pix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1 X 15 X 1,5c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50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veLAN Lucent 200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teampad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238560" cy="281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42A1-8AB3-481B-8F47-2A9037BA4C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quitetura do Gu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60360" y="2595600"/>
            <a:ext cx="879480" cy="7286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32000" y="2514600"/>
            <a:ext cx="880920" cy="7286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0280" y="4133880"/>
            <a:ext cx="3743280" cy="810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4781520"/>
            <a:ext cx="990360" cy="80964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55880" y="5348160"/>
            <a:ext cx="1431720" cy="105264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8" idx="2"/>
            <a:endCxn id="120" idx="1"/>
          </p:cNvCxnSpPr>
          <p:nvPr/>
        </p:nvCxnSpPr>
        <p:spPr>
          <a:xfrm>
            <a:off x="799920" y="3324240"/>
            <a:ext cx="1080" cy="851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19" idx="2"/>
            <a:endCxn id="120" idx="0"/>
          </p:cNvCxnSpPr>
          <p:nvPr/>
        </p:nvCxnSpPr>
        <p:spPr>
          <a:xfrm>
            <a:off x="2671560" y="3243240"/>
            <a:ext cx="108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" name=""/>
          <p:cNvCxnSpPr>
            <a:stCxn id="121" idx="0"/>
            <a:endCxn id="120" idx="1"/>
          </p:cNvCxnSpPr>
          <p:nvPr/>
        </p:nvCxnSpPr>
        <p:spPr>
          <a:xfrm flipV="1">
            <a:off x="799920" y="4174920"/>
            <a:ext cx="1080" cy="606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" name=""/>
          <p:cNvCxnSpPr>
            <a:stCxn id="122" idx="0"/>
            <a:endCxn id="120" idx="2"/>
          </p:cNvCxnSpPr>
          <p:nvPr/>
        </p:nvCxnSpPr>
        <p:spPr>
          <a:xfrm flipV="1">
            <a:off x="2671560" y="4214520"/>
            <a:ext cx="1080" cy="113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8" idx="0"/>
            <a:endCxn id="120" idx="3"/>
          </p:cNvCxnSpPr>
          <p:nvPr/>
        </p:nvCxnSpPr>
        <p:spPr>
          <a:xfrm flipV="1">
            <a:off x="4541400" y="4174560"/>
            <a:ext cx="2520" cy="70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27120" y="5105520"/>
            <a:ext cx="320760" cy="2286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98600" y="5562720"/>
            <a:ext cx="322200" cy="2286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3040" y="5791320"/>
            <a:ext cx="322200" cy="2286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5720" y="4876920"/>
            <a:ext cx="1432080" cy="105228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98960" y="5114880"/>
            <a:ext cx="322200" cy="2286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78200" y="5191200"/>
            <a:ext cx="322560" cy="2286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92640" y="5572080"/>
            <a:ext cx="322200" cy="2286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4960" y="2666880"/>
            <a:ext cx="94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onso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en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1320" y="2590920"/>
            <a:ext cx="792000" cy="5806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E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105520" y="2209680"/>
            <a:ext cx="3603240" cy="4114800"/>
            <a:chOff x="5105520" y="2209680"/>
            <a:chExt cx="3603240" cy="4114800"/>
          </a:xfrm>
        </p:grpSpPr>
        <p:sp>
          <p:nvSpPr>
            <p:cNvPr id="138" name=""/>
            <p:cNvSpPr/>
            <p:nvPr/>
          </p:nvSpPr>
          <p:spPr>
            <a:xfrm>
              <a:off x="5867280" y="3200400"/>
              <a:ext cx="2362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53080" y="2209680"/>
              <a:ext cx="685800" cy="6858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70360" y="2451960"/>
              <a:ext cx="70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PROX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01000" y="2209680"/>
              <a:ext cx="685800" cy="6858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31240" y="2361600"/>
              <a:ext cx="677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WEB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Serv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66040" y="3505320"/>
              <a:ext cx="685800" cy="6858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83320" y="3747240"/>
              <a:ext cx="70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PROX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29720" y="4724280"/>
              <a:ext cx="685800" cy="6858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3080" y="496656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Posi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53080" y="4648320"/>
              <a:ext cx="685800" cy="6858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02040" y="4799880"/>
              <a:ext cx="64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Clien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Agen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46" idx="1"/>
              <a:endCxn id="147" idx="6"/>
            </p:cNvCxnSpPr>
            <p:nvPr/>
          </p:nvCxnSpPr>
          <p:spPr>
            <a:xfrm flipH="1" flipV="1">
              <a:off x="7238520" y="4990680"/>
              <a:ext cx="681840" cy="11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9" idx="4"/>
              <a:endCxn id="143" idx="0"/>
            </p:cNvCxnSpPr>
            <p:nvPr/>
          </p:nvCxnSpPr>
          <p:spPr>
            <a:xfrm>
              <a:off x="6895800" y="2895480"/>
              <a:ext cx="13320" cy="61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1" name=""/>
            <p:cNvCxnSpPr>
              <a:stCxn id="142" idx="1"/>
              <a:endCxn id="140" idx="3"/>
            </p:cNvCxnSpPr>
            <p:nvPr/>
          </p:nvCxnSpPr>
          <p:spPr>
            <a:xfrm flipH="1">
              <a:off x="7302240" y="2590560"/>
              <a:ext cx="730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2" name=""/>
            <p:cNvCxnSpPr>
              <a:stCxn id="143" idx="4"/>
              <a:endCxn id="147" idx="0"/>
            </p:cNvCxnSpPr>
            <p:nvPr/>
          </p:nvCxnSpPr>
          <p:spPr>
            <a:xfrm flipH="1">
              <a:off x="6895440" y="4191120"/>
              <a:ext cx="1332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53" name=""/>
            <p:cNvSpPr/>
            <p:nvPr/>
          </p:nvSpPr>
          <p:spPr>
            <a:xfrm>
              <a:off x="7483320" y="5638680"/>
              <a:ext cx="685800" cy="6858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51640" y="5880960"/>
              <a:ext cx="81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Brows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3" idx="1"/>
              <a:endCxn id="147" idx="5"/>
            </p:cNvCxnSpPr>
            <p:nvPr/>
          </p:nvCxnSpPr>
          <p:spPr>
            <a:xfrm flipH="1" flipV="1">
              <a:off x="7138800" y="5233680"/>
              <a:ext cx="444960" cy="50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56" name=""/>
            <p:cNvSpPr/>
            <p:nvPr/>
          </p:nvSpPr>
          <p:spPr>
            <a:xfrm>
              <a:off x="5105520" y="2209680"/>
              <a:ext cx="685800" cy="6858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69240" y="245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7" idx="3"/>
              <a:endCxn id="140" idx="1"/>
            </p:cNvCxnSpPr>
            <p:nvPr/>
          </p:nvCxnSpPr>
          <p:spPr>
            <a:xfrm>
              <a:off x="5788080" y="2590560"/>
              <a:ext cx="754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82E3-6608-4AE0-A564-7CC5C89B0B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umo ao nível 2 de maturid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tores huma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nálises de comporta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ltidisciplin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4B75-1EB4-4E3E-9959-2B4FDD21E7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Cassiopeia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4514760" cy="37368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ARC Lab e Guideboo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 guia multimídia de visi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leção vis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nsagens de aud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udo de comporta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tr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tato hum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res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1B82-A832-4089-9C0A-5055017C54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6840" y="2514240"/>
            <a:ext cx="81788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Users want to construct a experience that incorporates the three entities they value: the guidebook, the room, and their companion(s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ARC Lab e Guideboo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416-1C57-4932-B0CA-698430BB3B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Viajando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upermercado ubíqu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 carrinh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 congestionamen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ção de custos e esto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ís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DF8-9DEC-40EC-AD43-57C58BAE61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sultados interessan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 e intens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acos andam em ban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lta muito a ser fei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109-3E95-461A-8648-64117ED565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BI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to GUIDE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guide.lancs.ac.uk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C Lab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parc.xerox.com/parc-go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and ubiquitous computing readin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cc.gatech.edu/classes/AY2001/cs7470_spring/readings/overview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DAD-5A90-4E37-8B03-7741376798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xt-Aware Computing Applications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ll Schilit, Norman Adams, Roy Wa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arc Tab Ubiquitous Computing Experiment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y Want, 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tronic Guidebooks and Visitor Attention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ison Woodruff, Paul M Aoki, Amy Hust, Margaret H. Szymansk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llenges: An Application Model for Pervasive Computing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ruduth Banavar, James Beck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s of Developing and Deploying a Context-Aware Tourist Guide: The GUIDE Project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eith Cheverst, Nigel Davies, Keith Mitchell and Adrian Frida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1E8-8A86-4427-9DC0-D2A05772B0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mputação Ubíqu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ção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e obje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ção de Computação Ubíqu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uridade de novas tecnolog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guns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jetos e seus result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RCTA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U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lavras fin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1F5-D733-4009-BEE4-E524DFFCC3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ção</a:t>
            </a: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 e objetiv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pilação de resultados recentes e releva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hecer grupos e projetos de pesqui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prender um pouco mais sobre a Computação 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* Distribuí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* Mó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* Ubíqua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6EEF-93D6-4B68-A6E3-C47552A163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efinição de Comp. Ubíqu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esso móvel a d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ção mass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aços intelig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ices intelig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ervasive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AE5-A817-43E9-BE36-596CB13AAA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esafi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truturada X Adho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plicações úte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droniz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tc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7E45-F1F5-4439-8377-C3A9FCB5F3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yr4"/>
          <p:cNvSpPr/>
          <p:nvPr/>
        </p:nvSpPr>
        <p:spPr>
          <a:xfrm>
            <a:off x="533520" y="4981680"/>
            <a:ext cx="3276360" cy="1000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aturidade de tecnologi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925440" y="5211720"/>
            <a:ext cx="430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Rounded MT Bold"/>
              </a:rPr>
              <a:t>O que podemos fa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61920" y="3987720"/>
            <a:ext cx="5878440" cy="998640"/>
            <a:chOff x="961920" y="3987720"/>
            <a:chExt cx="5878440" cy="998640"/>
          </a:xfrm>
        </p:grpSpPr>
        <p:sp>
          <p:nvSpPr>
            <p:cNvPr id="98" name="Pyr3"/>
            <p:cNvSpPr/>
            <p:nvPr/>
          </p:nvSpPr>
          <p:spPr>
            <a:xfrm>
              <a:off x="961920" y="3987720"/>
              <a:ext cx="2422800" cy="9986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14760" y="4267080"/>
              <a:ext cx="322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Arial Rounded MT Bold"/>
                </a:rPr>
                <a:t>Aplicações útei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382760" y="2986200"/>
            <a:ext cx="6201000" cy="1001520"/>
            <a:chOff x="1382760" y="2986200"/>
            <a:chExt cx="6201000" cy="1001520"/>
          </a:xfrm>
        </p:grpSpPr>
        <p:sp>
          <p:nvSpPr>
            <p:cNvPr id="101" name="Pyr2"/>
            <p:cNvSpPr/>
            <p:nvPr/>
          </p:nvSpPr>
          <p:spPr>
            <a:xfrm>
              <a:off x="1382760" y="2986200"/>
              <a:ext cx="1581120" cy="10015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60080" y="3276720"/>
              <a:ext cx="4423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Arial Rounded MT Bold"/>
                </a:rPr>
                <a:t>Aceitação do merca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808280" y="2133720"/>
            <a:ext cx="2080800" cy="852480"/>
            <a:chOff x="1808280" y="2133720"/>
            <a:chExt cx="2080800" cy="852480"/>
          </a:xfrm>
        </p:grpSpPr>
        <p:sp>
          <p:nvSpPr>
            <p:cNvPr id="104" name="Pyr1"/>
            <p:cNvSpPr/>
            <p:nvPr/>
          </p:nvSpPr>
          <p:spPr>
            <a:xfrm>
              <a:off x="1808280" y="2133720"/>
              <a:ext cx="734760" cy="85248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33760" y="2239920"/>
              <a:ext cx="125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Arial Rounded MT Bold"/>
                </a:rPr>
                <a:t>Luc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DB3-7091-46B3-936C-4713285D6D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lguns projet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CT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Poineiro no PARC Lab da XERO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ortola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Infraestrutura, serviços distribuídos e interfaces na Universidade de Washingt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ahoma"/>
              </a:rPr>
              <a:t>Invisible Computing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no M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nTheM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ahoma"/>
              </a:rPr>
              <a:t>City Guide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em desenvolvimento na Sué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Informações turísticas na Universidade de Lanca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F1C-E3B0-41BC-9A2B-F71DB9CA7F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ARCTa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r dispositivos móveis na rede de um escritó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ordagem estrutur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çou o termo Computação Ubíqu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held da Olivetti (monocromático de 10.5 x 7.8 x 2.4 c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errado em 95/96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stro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unistroke" descr=""/>
          <p:cNvPicPr/>
          <p:nvPr/>
        </p:nvPicPr>
        <p:blipFill>
          <a:blip r:embed="rId1"/>
          <a:stretch/>
        </p:blipFill>
        <p:spPr>
          <a:xfrm>
            <a:off x="2819520" y="5410080"/>
            <a:ext cx="4010040" cy="11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3A6-201B-4C63-B6B5-9DD8461735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GU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uia turístico da cidade sensível a localização do usuário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context-awar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rface WE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bordagem estruturada e baseada em célu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adeo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nt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 e liber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Guide2" descr=""/>
          <p:cNvPicPr/>
          <p:nvPr/>
        </p:nvPicPr>
        <p:blipFill>
          <a:blip r:embed="rId1"/>
          <a:stretch/>
        </p:blipFill>
        <p:spPr>
          <a:xfrm>
            <a:off x="5257800" y="4267080"/>
            <a:ext cx="2624040" cy="197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FE7-B410-41A0-8519-C21D111285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9:10:18Z</dcterms:created>
  <dc:creator>Arlindo Flávio da Conceição</dc:creator>
  <dc:description/>
  <dc:language>en-US</dc:language>
  <cp:lastModifiedBy>Ericsson User</cp:lastModifiedBy>
  <cp:lastPrinted>2001-06-22T14:32:31Z</cp:lastPrinted>
  <dcterms:modified xsi:type="dcterms:W3CDTF">2001-06-22T16:21:09Z</dcterms:modified>
  <cp:revision>234</cp:revision>
  <dc:subject/>
  <dc:title>Apreentação sobre comp ubi</dc:title>
</cp:coreProperties>
</file>