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2F315F6-2FF7-46EF-917F-D918867F40B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esent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no de doutorado do IME/U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or na rede priv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r que este problema é uma conseqüência exclusiva da computação móv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ixa banda de transmis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aviação, por exemplo, não é possível parar o computador móvel, como no caso dos carros e pedes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47BD-5D08-45AF-8816-79281271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2805-44F1-41B0-9FA1-9D9CCB7E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B61-36D0-4BD5-A007-65C9D437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9D60-9EDF-4D8B-9908-69F8D36F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BFD7-AC0E-4240-8218-0AC1E9BF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7A34-825F-4DDD-9D18-93C922DA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C449-63DD-4D92-AF4A-8EB10900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A98B-373E-4AF6-B59D-18C7C378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FE0F-C317-417E-ADAF-5DC1431E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2F2F-2E71-45F4-8823-B12B4390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22C7-48EC-4B39-8FBE-C8B3DB66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81AE-3453-4802-8995-C009D96F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A296-DA53-4594-9FF3-6D3857B9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930D-F096-472D-97E4-1F163A55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6095-576C-4953-AFA0-D5AA313F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D7AF-7D0F-49FB-8497-952B535D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E74E-705F-454D-A499-60EFD0FD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B997-BB03-43CF-AADD-F42DA39E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813-4592-4870-9095-52FF9038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E1A-DF56-45C9-9FDE-F01B73DE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165-04CB-447E-B44B-774AF065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8D6-E206-468A-899A-BAE0C9B3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7A3F-4EE8-477A-B0AD-6F843C41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140-60D7-42F8-B8A8-91F3C38A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5097-AE45-4535-9CF2-0E55E9D3E0C5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9685-56E8-4A7D-AA01-C9F44DACD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C3D5-A746-49BB-8B27-302598EB6297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E537-DEEB-4DD5-AC46-B496157E9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 Semântica de “aqui” Para Consultas em Sistemas Transacionais Móvei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gênio Akihiro Nas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2120" y="5486400"/>
            <a:ext cx="1520640" cy="396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543800" y="3657600"/>
            <a:ext cx="1168560" cy="174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952880" y="5334120"/>
            <a:ext cx="1592280" cy="923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tores que influenciam a variação de “aqui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oc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 de respo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AA4-B0DF-4AAA-B5B6-95950B1CD6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9CDF7-95D4-40BD-8738-A3AB09843896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álculo da Velocida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 ser fornecida a velocidade pelo sistema, através da leitura do velocíme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os vindos do sistema, como a medição de velocidade da C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C1C5-E2E2-44A2-881F-AD12702639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B5E5F-2259-4FA8-9B8E-47B5BF2CF697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ria levar a infinitos destinos, se irrestr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aplicação de referência, a mobilidade se restringe a um gra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ireção e senti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597560" y="4262400"/>
            <a:ext cx="1809720" cy="1346400"/>
            <a:chOff x="4597560" y="4262400"/>
            <a:chExt cx="1809720" cy="1346400"/>
          </a:xfrm>
        </p:grpSpPr>
        <p:sp>
          <p:nvSpPr>
            <p:cNvPr id="186" name=""/>
            <p:cNvSpPr/>
            <p:nvPr/>
          </p:nvSpPr>
          <p:spPr>
            <a:xfrm>
              <a:off x="4597560" y="4633920"/>
              <a:ext cx="9504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645080" y="4452480"/>
              <a:ext cx="676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11800" y="4395960"/>
              <a:ext cx="9540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02120" y="5167440"/>
              <a:ext cx="954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69160" y="4262400"/>
              <a:ext cx="9504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64120" y="5519880"/>
              <a:ext cx="954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83120" y="5281560"/>
              <a:ext cx="954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35800" y="4338720"/>
              <a:ext cx="9504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11880" y="5148360"/>
              <a:ext cx="954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54440" y="4700520"/>
              <a:ext cx="26676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987800" y="4471920"/>
              <a:ext cx="371520" cy="67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68720" y="5234040"/>
              <a:ext cx="10476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178600" y="5338800"/>
              <a:ext cx="7142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416560" y="4395600"/>
              <a:ext cx="2286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702040" y="4424400"/>
              <a:ext cx="22860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740560" y="4300200"/>
              <a:ext cx="26640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35760" y="4329000"/>
              <a:ext cx="304560" cy="8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997600" y="5205240"/>
              <a:ext cx="333360" cy="1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4" name=""/>
          <p:cNvGraphicFramePr/>
          <p:nvPr/>
        </p:nvGraphicFramePr>
        <p:xfrm>
          <a:off x="1828800" y="4267080"/>
          <a:ext cx="193356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267080"/>
                    <a:ext cx="193356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0E69-E56B-43F4-A6FA-14BB4652499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F9661-6BAC-457C-BE9B-F4C5D32E30BE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mp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volve várias compon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po de transmissão (Mh-M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po de localização do 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po de execução da consu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po de localização do Mss corr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po de transmissão (Mss-M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7DB-F0E4-46DA-B15A-BCFC09C06EF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0A9E9-CF76-449B-822D-C39354F6D55E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plement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 do tempo: precisa ser estimado, levando em conta dados estatísticos dos sistemas de monitor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ocidade: consultada no velocímetro Posição: A partir dessas informações um ou vários vértices do gra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mos fornecer várias respostas possíve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438-6BCF-403D-9C97-A02325271D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DE70F-61F5-42EF-937D-CC9085D08510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plement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ilador de consul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ifica se “aqui” faz parte da consu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fizer, cria código para efetuar a consul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lementação em Java, independente do Banco de D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erramentas: Byacc, Jflex,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es: script, semelhante ao Mob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9F5-CAE8-4572-AB97-1B3624776D3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614E1-DCD9-456B-9912-94B93534D3CE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plement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éias principa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r a consulta, procurando p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não ocorrer o aqui, executa a consulta norm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ocorr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-process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ós process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7F35-E888-4E1B-92A7-26D975A4ACB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0086F-0D04-4A00-B05F-DAB0B3532E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ição Atual e Futu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mplementação Inici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a. Fase: Versão “Standalone”, para te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desenvolvimento. Término previsto para meados do 1o. Semestre/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a. Fase: integr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a. Fase: Finalização (tese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érmino esperado para 3/2002 (1 a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A82-0CDE-4E65-9ED8-EF197DE74EE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EE9E3-2AD3-4022-A385-4AC6FD1895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finir as semânticas de “aqu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ste das semânticas do “aqui”, através da impleme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sar o SIDAM como plataforma de teste, estendendo-o com uma nova ferram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ublicaçõ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85C-C9B0-44F7-ADB0-D5CAB2C3B9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6FFBE-1850-4BEE-8034-041C16716F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EUCONFUS" descr=""/>
          <p:cNvPicPr/>
          <p:nvPr/>
        </p:nvPicPr>
        <p:blipFill>
          <a:blip r:embed="rId1"/>
          <a:stretch/>
        </p:blipFill>
        <p:spPr>
          <a:xfrm>
            <a:off x="3643200" y="1430280"/>
            <a:ext cx="1857600" cy="39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3A3D-4B9B-4198-8683-4F315070452B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2CE36-4AB9-49C4-8DDE-CF33876FB0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ar os diversos valores possíveis para a variável “aqui” onde os usuários são móve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r a semântica correta para cada situ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ar essas semânticas implementando um pré-processador de consultas para o SID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ECB-7DC1-4425-8A02-EC5B8E6218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5C1B3-A044-4BE9-890B-510F586344C0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blemas Relacionad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ora” em bancos de d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ção é modificada através do tempo e espaço (mais uma dimens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as a objetos móveis em G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nosso caso, os usuários é que são mó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pretendemos armazenar informação sobre cada usuário no banco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83C-DBE3-4628-947A-3AF6176CF1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216C2-2335-41A2-94D3-FF29F587B303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sultas Envolvendo “Aqui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Úteis em sistemas de informação de trânsito, como na aplicação de referê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u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neça o restaurante chinês mais próxim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qui implíci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ualizações ou inclus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teceu um acident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qu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u estou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qu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98D-BF0E-46C7-92B0-E5350601CC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D9A91-44F9-4F3D-B300-B36E179F585C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utras Aplicaçõ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amento aé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a tridimen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a veloc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ção de escri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dade baix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451-9B27-4F34-A44A-8085077FE6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8162A-0A08-47BB-B4FE-F41D95D699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qui” Muda ??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do o usuário é móvel, mu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14400" y="3276720"/>
          <a:ext cx="95580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276720"/>
                    <a:ext cx="95580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666880" y="3276720"/>
            <a:ext cx="276480" cy="21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200400"/>
            <a:ext cx="324000" cy="276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581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8680" y="2479680"/>
            <a:ext cx="134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ício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2514600"/>
            <a:ext cx="357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cebimento da res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819160" y="3657240"/>
            <a:ext cx="2350440" cy="765000"/>
            <a:chOff x="2819160" y="3657240"/>
            <a:chExt cx="2350440" cy="765000"/>
          </a:xfrm>
        </p:grpSpPr>
        <p:sp>
          <p:nvSpPr>
            <p:cNvPr id="158" name=""/>
            <p:cNvSpPr/>
            <p:nvPr/>
          </p:nvSpPr>
          <p:spPr>
            <a:xfrm flipH="1" flipV="1">
              <a:off x="2819160" y="365724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7400" y="3962520"/>
              <a:ext cx="212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posta obti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5029200" y="3276720"/>
          <a:ext cx="955800" cy="26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276720"/>
                    <a:ext cx="95580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2" name=""/>
          <p:cNvGrpSpPr/>
          <p:nvPr/>
        </p:nvGrpSpPr>
        <p:grpSpPr>
          <a:xfrm>
            <a:off x="6704640" y="3657240"/>
            <a:ext cx="2207520" cy="688680"/>
            <a:chOff x="6704640" y="3657240"/>
            <a:chExt cx="2207520" cy="688680"/>
          </a:xfrm>
        </p:grpSpPr>
        <p:sp>
          <p:nvSpPr>
            <p:cNvPr id="163" name=""/>
            <p:cNvSpPr/>
            <p:nvPr/>
          </p:nvSpPr>
          <p:spPr>
            <a:xfrm>
              <a:off x="6704640" y="3886200"/>
              <a:ext cx="220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posta corre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6933960" y="365724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69D-D26C-4E5E-915B-61C9A91574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41D0D-6D7F-4D17-8D10-46BA616AF0F8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qui” Muda ??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666880" y="1676520"/>
          <a:ext cx="4772160" cy="41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76520"/>
                    <a:ext cx="477216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6781680" y="4648320"/>
            <a:ext cx="152640" cy="152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552720" y="4266720"/>
            <a:ext cx="228600" cy="3812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6324120" y="3352680"/>
            <a:ext cx="228600" cy="9144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867280" y="3352680"/>
            <a:ext cx="457200" cy="3049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3352680"/>
            <a:ext cx="152280" cy="152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581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3657600"/>
            <a:ext cx="152280" cy="152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14E-4FD8-47A7-AC38-3334F53F286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72E1C-C6F2-4E4A-B765-5BF5EDDB43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Diferentes Valores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 “Aqui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qui_i - quando a consulta é iniciada pelo usu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qui_c - quando a consulta é encerrada no banco de dados (com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qui_f - quando a resposta é recebida pelo usu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E4B-68A3-41AB-B839-111FC756B4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D3E68-82B0-469A-A895-6DEF5F0C9F7E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os dos diferentes valores de “aqui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i_i - atualizaç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ve um aciden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qu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i_c - atualizaç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 est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qu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i_f - consul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 o restaurante chinês mais próximo 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9284-3884-4795-9F6B-DBD4E24ACD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D7406-A7A4-4C12-A79D-E8F471400ADC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03:26:33Z</dcterms:created>
  <dc:creator>Eugênio Akihiro Nassu</dc:creator>
  <dc:description/>
  <dc:language>en-US</dc:language>
  <cp:lastModifiedBy>Eugênio Akihiro Nassu</cp:lastModifiedBy>
  <cp:lastPrinted>2001-01-11T02:08:52Z</cp:lastPrinted>
  <dcterms:modified xsi:type="dcterms:W3CDTF">2001-06-04T03:48:20Z</dcterms:modified>
  <cp:revision>26</cp:revision>
  <dc:subject/>
  <dc:title>A semântica de “aqui” em consultas em sistemas com usuários móveis</dc:title>
</cp:coreProperties>
</file>