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611E-C428-463A-ABE5-D7DD678AE25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1AA7-F414-4737-98F8-8EA9CD67AF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ço Reservado para Rodapé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28BA-0ACA-4E25-B478-D3907956528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ço Reservado para Rodapé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28D-7DC1-4963-9204-2C766514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20E-E9C1-444B-8651-2DE3EC52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371-6D6E-4FA8-95EC-7BEA0105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534-26F2-4EC9-8820-B658E699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848B-DBC1-483E-B179-392000B1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1DED-044D-4F64-9A73-784F002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82EB-944F-4AA0-BED6-C951BBED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842D-6ED7-4A3A-BE8D-79FA50BC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4419-A4B2-41F3-A024-F1482549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13E5-6B9F-4383-AC25-F2A6A554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E86E-F4A2-43D9-9F9C-F506424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75D-1B4E-450B-A0B4-360FB8F7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824D-12F0-4E48-8D47-02E1623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3F33-E1F3-4590-B086-DFF54B9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869A-CCBB-4C19-A1FC-C63DCEE5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39F6-2F59-4E36-86BB-E6F696C6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CA72-58BE-4AEE-9E90-FE946D61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B9D2F-53F6-4414-8D8C-57236F2C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01D0E-1229-4EBD-8B9A-6833F941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8CA9C-D776-4A43-B04D-8188413F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C5E2B-882C-4818-A10A-C2BC0F50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7E22C-CD5D-4B73-88D8-D27BD30D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33F-8E13-4B44-9C74-9B19A0EF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750DF-56C2-40D7-BDDB-DDB1E68B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AF1D2-64A4-4121-8E38-289F3B17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63496-F179-4B48-9181-80DB7AD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D5CAA-5219-434A-B5C8-DCB4B0A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11EAF-225A-4E21-AA6D-953643CE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B16BF-5791-4ECE-B28E-EAE8F4ED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17649-1EDE-46DC-B881-6221EBC6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AAD5-DF3E-45D9-BA10-7959DFD4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8E20-A93F-4ACE-8BA6-FE54202E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7C6C-B898-4967-BAFD-49BB5D1D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316-D634-4DC0-ABE6-7B4469D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7DB7-66E6-4DC2-9483-B5E0328F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C3DB4-5B10-4DC6-9D14-8094C50F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E865-C984-44FF-A36A-05314744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1F2A-4FF8-4985-8653-86F7448A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A583-B88E-4465-8D87-CE24B32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A6AB-C5D7-4DE8-9D6E-2517F667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9A0AF-2D39-42D6-A519-A9DE62DA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0B32-3994-4D52-9216-DDBC10D1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2EB7-EF0D-40CF-80E9-99218B3A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745EF-144B-4D29-8995-850A710F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54D-5759-46F6-B987-11A83E92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D1118-337A-4F92-85DD-5F712271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5CDEF-6751-4553-97F4-64AF8BBE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88D2D-634D-4D92-9EB2-4529CDC5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04086-2D4D-4492-B689-13835394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A85DA-4F93-4C26-9C0E-200B4C01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6754B-5574-4F6F-9B88-9991E3B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D904D-6DC2-4E85-8EDD-C599159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4EF16-88DF-4B7A-8FC6-EBE9B1F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8548E-8293-4465-9601-4FC10DED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DDFF3-2CB5-44E6-954C-52FAF9C6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73D-83C9-4016-B4CB-37FF83EA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D5CDD-3A66-4260-A37C-58321579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F5B65-9AFB-4D6C-A46F-D6559771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B1EAB-5DF2-49A0-A738-3DA28D71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40971-E9C5-4E2A-99D2-7E241E1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5806B-ED0C-4080-A9D9-69ABC50F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00FE1-6F5D-434D-9B8F-ED88C54F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4DCEA-4F54-4C77-A94F-E31CFF80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D87A9-957F-4310-A100-BF7F1ABD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B0AA0-43D3-4BF4-BF6D-8C6543A9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C9321-C09D-4E69-AB0F-3AB333D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9D4-4194-4637-9FCD-42A4680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19609-CBC5-4BD5-AEDF-904903E8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080AE-68B0-461D-AFE7-5EE16352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4A6A6-4F05-436D-96E3-51C8BAA9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1D083-A5F5-4BE4-9497-9BBFB82F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3D7EE-7941-49BD-9AB4-CAFAEC5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8EB84-1852-45BE-8A78-90A64842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42BCA-1652-4B39-AD0C-F890C34F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5D797-A9CA-4605-9382-70C0CD7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8E8BC-A7AF-4A94-AD6A-72A07D55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10805-0322-4AFB-8C46-EE6AAEF0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DC3-0985-4F7C-AF9C-D55BF323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3B910-C6E3-4AFA-A0EE-539C7AF3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4314E-A864-4878-AAA9-872C8065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0DFCB-78A9-40C7-9FCE-997625DE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125A9-51CA-4932-B840-CACE7332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E56C6-6B25-4606-A02F-3C943557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CEF-FACF-49AD-884F-6DFC0AD3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4347-AEEC-47E1-B6F8-5CEFC9E38E71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8457-64FE-4E0F-AC15-3102098AC88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c5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b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b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e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c5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e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c5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c5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7BF7-FC98-41A3-B868-87DAB5DA6BC1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92A-A85F-4114-A9CB-EE25A4D0180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76AB-EACC-4DF3-92F5-201942EB185D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5078-5782-4B89-842F-C162D6DC971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c5a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b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b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e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c5a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e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c5a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c5a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4045-1DEB-43AB-8930-D7E38B69D8CE}" type="datetime"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0582-6E97-4DBA-A86D-5AAD1C2F99E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002-91B6-4716-A147-FB7E59E7DAF5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841A-C219-4D68-A1B4-D2891E1A33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1910-6ECE-4691-8D4D-CC8B77C731C1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7B9F-3B4C-45A9-84AF-C814EF1779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18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c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c5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18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67b1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c5a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8BA8-5904-4B30-86C3-8070A50D0117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43E7-C449-402B-A00E-28DC4D4AADF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87640" y="2857680"/>
            <a:ext cx="547056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5b6f"/>
                </a:solidFill>
                <a:latin typeface="Century Schoolbook"/>
              </a:rPr>
              <a:t>FLUXO DE DADOS EM WORKFLOWS CIENTÍFICOS:</a:t>
            </a:r>
            <a:br>
              <a:rPr sz="2400"/>
            </a:br>
            <a:r>
              <a:rPr b="1" lang="en-US" sz="2400" spc="-1" strike="noStrike">
                <a:solidFill>
                  <a:srgbClr val="4e5b6f"/>
                </a:solidFill>
                <a:latin typeface="Century Schoolbook"/>
              </a:rPr>
              <a:t>O SISTEMA KEPLER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071600" y="507204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e5b6f"/>
                </a:solidFill>
                <a:latin typeface="Century Schoolbook"/>
              </a:rPr>
              <a:t>Aluno: William Tankiti Yamamot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e5b6f"/>
                </a:solidFill>
                <a:latin typeface="Century Schoolbook"/>
              </a:rPr>
              <a:t>Orientador: João Eduardo Ferreir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ubtítulo 2"/>
          <p:cNvSpPr/>
          <p:nvPr/>
        </p:nvSpPr>
        <p:spPr>
          <a:xfrm>
            <a:off x="4929120" y="5929200"/>
            <a:ext cx="3571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e5b6f"/>
                </a:solidFill>
                <a:latin typeface="Century Schoolbook"/>
              </a:rPr>
              <a:t>Departamento de Ciência da Compu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e5b6f"/>
                </a:solidFill>
                <a:latin typeface="Century Schoolbook"/>
              </a:rPr>
              <a:t>Instituto de Matemática e Estat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e5b6f"/>
                </a:solidFill>
                <a:latin typeface="Century Schoolbook"/>
              </a:rPr>
              <a:t>Universidade de São Pa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ço Reservado para Número de Slide 7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AB74-49F5-4F8C-A581-7B80DE9659C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ço Reservado para Rodapé 8"/>
          <p:cNvSpPr/>
          <p:nvPr/>
        </p:nvSpPr>
        <p:spPr>
          <a:xfrm rot="5400000">
            <a:off x="6804360" y="3909240"/>
            <a:ext cx="4202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Imagem 4" descr="kepler-logo2.png"/>
          <p:cNvPicPr/>
          <p:nvPr/>
        </p:nvPicPr>
        <p:blipFill>
          <a:blip r:embed="rId1"/>
          <a:stretch/>
        </p:blipFill>
        <p:spPr>
          <a:xfrm>
            <a:off x="1979640" y="3643200"/>
            <a:ext cx="95724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FLUXO DE DADOS NO KEPLER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omunicação entre os at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ransporte de “mensagens” por meio de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portas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(single/mult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ipos de dados polimórficos (números, strings, arrays..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omportamentos polimórficos (process network, time-triggered, synchronous dataflow..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Recept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ontêineres que armazenam os dad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Portas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contêm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recept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riados pelo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direto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Implementam a comunicaç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Espaço Reservado para Número de Slide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161B-D39D-4FAD-B2AD-5DE49E9263D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ço Reservado para Rodapé 3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REFERÊNCIAS BIBLIOGRÁFICAS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ward A. Lee and Stephen Neuendorffer, "Concurrent Models of Computation for Embedded Software“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echnical Memorandum UCB/ERL M04/2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University of California, Berkeley, CA 94720, July 22, 200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Grace A. P. Borges, “Controle de dados em Processos de Negócio e Workflows Científicos”,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Exame de Qualificação de Mestrad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, 2007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. Bowers and B. Ludaescher. Actor-oriented design of scientific workflows. In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International Conference on Conceptual Modeling (ER´2005)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Workflow Management Coalition, 199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B0BB-80C0-4A5D-B764-D8CD43205E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spaço Reservado para Rodapé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CONTEÚDO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finição de Workflo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 que é Workflow Científico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orkflow Científico vs. Workflow de Negóc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518c2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tivaç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obre o Kep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luxo de Dados no KEP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AB5E-7858-4A8C-8667-4D4DE8F20BC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ço Reservado para Rodapé 4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DEFINIÇÃO DE WORKFLOW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É a automação do processo de negócio onde documentos, informações ou tarefas são passadas de um participante para o outro de acordo com um conjunto de regras de procedimentos para se atingir um objetivo de negócio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[Workflow Management Coalition, 1995]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DD1-5034-4268-9BF5-28448A1CD03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ço Reservado para Rodapé 4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O QUE É WORKFLOW CIENTÍFICO?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plicação do conceito de 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workflow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m ambientes científicos. Diferentemente dos ambientes de negócio, os ambientes científicos visam a análise e a manipulação de grande volume de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dado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8E9B-6843-43D0-B889-22860E8CFC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ço Reservado para Rodapé 4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DIFERENÇAS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77" name="Espaço Reservado para Conteúdo 12" descr=""/>
          <p:cNvPicPr/>
          <p:nvPr/>
        </p:nvPicPr>
        <p:blipFill>
          <a:blip r:embed="rId1"/>
          <a:stretch/>
        </p:blipFill>
        <p:spPr>
          <a:xfrm>
            <a:off x="133200" y="3754440"/>
            <a:ext cx="3670560" cy="2365200"/>
          </a:xfrm>
          <a:prstGeom prst="rect">
            <a:avLst/>
          </a:prstGeom>
          <a:ln w="0">
            <a:noFill/>
          </a:ln>
        </p:spPr>
      </p:pic>
      <p:pic>
        <p:nvPicPr>
          <p:cNvPr id="378" name="Espaço Reservado para Conteúdo 13" descr=""/>
          <p:cNvPicPr/>
          <p:nvPr/>
        </p:nvPicPr>
        <p:blipFill>
          <a:blip r:embed="rId2"/>
          <a:stretch/>
        </p:blipFill>
        <p:spPr>
          <a:xfrm>
            <a:off x="4054320" y="3754440"/>
            <a:ext cx="3668760" cy="236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518c20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Workflow Científic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518c20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Workflow de Negóc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Espaço Reservado para Número de Slide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D9E8-9FF0-4CC3-BF38-7CC25DFE287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spaço Reservado para Rodapé 9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Seta para baixo 10"/>
          <p:cNvGrpSpPr/>
          <p:nvPr/>
        </p:nvGrpSpPr>
        <p:grpSpPr>
          <a:xfrm>
            <a:off x="1920960" y="2670120"/>
            <a:ext cx="871560" cy="633600"/>
            <a:chOff x="1920960" y="2670120"/>
            <a:chExt cx="871560" cy="633600"/>
          </a:xfrm>
        </p:grpSpPr>
        <p:pic>
          <p:nvPicPr>
            <p:cNvPr id="384" name="Seta para baixo 10" descr=""/>
            <p:cNvPicPr/>
            <p:nvPr/>
          </p:nvPicPr>
          <p:blipFill>
            <a:blip r:embed="rId3"/>
            <a:stretch/>
          </p:blipFill>
          <p:spPr>
            <a:xfrm>
              <a:off x="1920960" y="2670120"/>
              <a:ext cx="8715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78000" y="2714760"/>
              <a:ext cx="3571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Seta para baixo 11"/>
          <p:cNvGrpSpPr/>
          <p:nvPr/>
        </p:nvGrpSpPr>
        <p:grpSpPr>
          <a:xfrm>
            <a:off x="5705640" y="2670120"/>
            <a:ext cx="871200" cy="633600"/>
            <a:chOff x="5705640" y="2670120"/>
            <a:chExt cx="871200" cy="633600"/>
          </a:xfrm>
        </p:grpSpPr>
        <p:pic>
          <p:nvPicPr>
            <p:cNvPr id="387" name="Seta para baixo 11" descr=""/>
            <p:cNvPicPr/>
            <p:nvPr/>
          </p:nvPicPr>
          <p:blipFill>
            <a:blip r:embed="rId4"/>
            <a:stretch/>
          </p:blipFill>
          <p:spPr>
            <a:xfrm>
              <a:off x="5705640" y="2670120"/>
              <a:ext cx="871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965920" y="2714760"/>
              <a:ext cx="3571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MOTIVAÇÃO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ombinar o controle de fluxo de dados com o fluxo de atividad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Controle de fluxo de atividades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em Workflows de Negócios bastante difundido, utilizado e estud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Funcionamento do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fluxo de dados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em Workflows Científicos ainda precisa ser explorad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Entender o </a:t>
            </a:r>
            <a:r>
              <a:rPr b="1" i="1" lang="pt-BR" sz="2000" spc="-1" strike="noStrike">
                <a:solidFill>
                  <a:srgbClr val="000000"/>
                </a:solidFill>
                <a:latin typeface="Century Schoolbook"/>
              </a:rPr>
              <a:t>dataflow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é fundamental para integraç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701B-0765-4771-A863-EF5D091D6F4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ço Reservado para Rodapé 2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SOBRE O KEPLER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mbiente para </a:t>
            </a:r>
            <a:r>
              <a:rPr b="0" i="1" lang="pt-BR" sz="2000" spc="-1" strike="noStrike">
                <a:solidFill>
                  <a:srgbClr val="000000"/>
                </a:solidFill>
                <a:latin typeface="Century Schoolbook"/>
              </a:rPr>
              <a:t>workflows científ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Utilizado em áreas como a bioinformática, ecoinformática e geoinformát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18c2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Modelo orientado a ator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Espaço Reservado para Número de Slide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214B-0B83-4B09-AA69-83FFA4D298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Espaço Reservado para Rodapé 9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COMPONENTES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8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F01D-2F2A-4CDC-B6C6-BA16D781F45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ço Reservado para Rodapé 4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2000160" y="1857240"/>
            <a:ext cx="478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entury Schoolbook"/>
              </a:rPr>
              <a:t>FLUXO DE DADOS NO KEPLER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2" name="Espaço Reservado para Número de Slide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BC25-0F7D-49E6-AE1C-9F5BC47037B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ço Reservado para Rodapé 1"/>
          <p:cNvSpPr/>
          <p:nvPr/>
        </p:nvSpPr>
        <p:spPr>
          <a:xfrm rot="5400000">
            <a:off x="6687360" y="3434760"/>
            <a:ext cx="380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MAC499 - Trabalho de Formatura Supervisi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Imagem 6" descr="Dataflow.PNG"/>
          <p:cNvPicPr/>
          <p:nvPr/>
        </p:nvPicPr>
        <p:blipFill>
          <a:blip r:embed="rId1"/>
          <a:stretch/>
        </p:blipFill>
        <p:spPr>
          <a:xfrm>
            <a:off x="1770120" y="2000160"/>
            <a:ext cx="530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7:34:01Z</dcterms:created>
  <dc:creator>WTY</dc:creator>
  <dc:description/>
  <dc:language>en-US</dc:language>
  <cp:lastModifiedBy>adm</cp:lastModifiedBy>
  <dcterms:modified xsi:type="dcterms:W3CDTF">2007-11-14T13:48:31Z</dcterms:modified>
  <cp:revision>88</cp:revision>
  <dc:subject/>
  <dc:title>Slide 1</dc:title>
</cp:coreProperties>
</file>